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2D4-F5BE-47BC-8501-8B97BABC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F4C9-9A6F-457C-ADB8-E79934EB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2455-883F-4174-91EA-3FD5F0CF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B83-2E84-43D1-9078-C2151EE9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B28D-B457-40AD-A25D-6C645262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E82-6521-4D7A-8FDD-7666E009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9F5-EA7A-44B3-81A4-6F4B0CE2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7F6-BF14-40AE-8BB8-BD8F255E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E5C-E36D-4BD6-9390-BF87367E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939-B241-496A-B65B-305B5883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A39-FEDD-4E2F-88FB-32015D0A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CD7-957B-4307-B9C5-EFDEC608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618B-0EFF-429A-AFAE-312E1BA45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TYPES OF EPI STUDI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86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2:58Z</dcterms:modified>
  <cp:revision>96</cp:revision>
  <dc:subject/>
  <dc:title>The Art in the State of the Art</dc:title>
</cp:coreProperties>
</file>